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E4218-FF44-473F-B9EF-E586961C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7718C-B7E9-4917-AB81-B12D966F0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2E685-7C87-4B42-9B34-B0CA272E3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D7DE-835A-4C01-8740-12AAE769A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1D962-ADBD-4419-AB87-44BB8876C8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D8A59-F298-4947-AA62-A9DD2B08A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6A68F-7C47-4C81-9360-33DB9377C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5C6-38D2-4F0E-B1C1-19C1232F1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EC883-3335-4745-84D6-A36932096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0C9A0-E45A-49B1-B0DD-1E016CD4F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62FA0-BBBD-44F9-A9C6-0B803C84F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2E89-B353-4539-8CE2-996A5997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F4E1A-5D9F-4424-8D04-EBE76AC6E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531A-ABEF-4FD4-BFB2-A8268CBB9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E9D7A-D746-4934-8254-98466A2AF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84B2A-94D8-44F5-A3EE-9EBD72FE5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3141C-192D-4A3F-A958-FA977316B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DABFB-46CC-44B7-8343-FA6F65E12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664A-238E-4AFD-AEDB-DA43C115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B9FB-255C-44B2-B710-B6FDCB2F7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E9D75-27C1-49C4-B546-9CAC5E06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A928-5D10-46C7-AF8B-C39BDFA25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BE32-85A2-4FBE-8AC1-7011193D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B4A4-7851-45B3-9619-D42331FE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2B37F-EC3F-4231-8AF0-C20214535436}" type="slidenum"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349"/>
                </a:spcBef>
                <a:buClr>
                  <a:srgbClr val="545472"/>
                </a:buClr>
                <a:buSzPct val="70000"/>
                <a:buFont typeface="Tahoma"/>
                <a:buChar char="»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545472"/>
                </a:solidFill>
                <a:latin typeface="Tahoma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2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5037D-0FB4-4F70-BEA0-A09C442745CD}" type="slidenum">
              <a:rPr b="0" lang="it-IT" sz="2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70828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L’analisi delle reti sociali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7DE63-3464-4E0A-8688-BA8E15083185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27120"/>
            <a:ext cx="7772400" cy="714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Come ci giudicano gli altri?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42560" y="1413000"/>
            <a:ext cx="889308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Il </a:t>
            </a:r>
            <a:r>
              <a:rPr b="0" i="1" lang="it-IT" sz="2600" spc="-1" strike="noStrike">
                <a:solidFill>
                  <a:srgbClr val="545472"/>
                </a:solidFill>
                <a:latin typeface="Tahoma"/>
              </a:rPr>
              <a:t>test di percezione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 costituisce un ulteriore raffinamento dell’approccio sociometric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ciascun partecipante viene chiesto di indicare le persone che, secondo lui, lo hanno scelto o rifiutato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Questa possibilità collega la sociometria ad un idea centrale (sviluppata da Cooley, Mead e l’interazionismo simbilico) nella tradizione della psicologia sociale: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oi formiamo la nostra identità guardandoc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nello “specchio” delle opinioni che gli altri 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	</a:t>
            </a:r>
            <a:r>
              <a:rPr b="0" lang="it-IT" sz="2600" spc="-1" strike="noStrike">
                <a:solidFill>
                  <a:srgbClr val="800000"/>
                </a:solidFill>
                <a:latin typeface="Tahoma"/>
              </a:rPr>
              <a:t>hanno di noi.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999A0-76AE-4BA1-B4DE-97984A13E12C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vvero … dall’attrazione / repulsione ai flussi di comunic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indagano più gruppi chiusi, ma maglie aperte di relazioni interpersonali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on si studiano più le strutture delle simpatie, ma il sistema dei contatti; perde senso la valutazione della reciprocità della designazion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0DB2-AC63-40E4-A1FC-30CE9C516E4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785440" cy="122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Dalla Sociometria alla </a:t>
            </a:r>
            <a:r>
              <a:rPr b="0" i="1" lang="it-IT" sz="4000" spc="-1" strike="noStrike">
                <a:solidFill>
                  <a:srgbClr val="660066"/>
                </a:solidFill>
                <a:latin typeface="Tahoma"/>
              </a:rPr>
              <a:t>Social Network </a:t>
            </a:r>
            <a:r>
              <a:rPr b="0" i="1" lang="en-US" sz="4000" spc="-1" strike="noStrike">
                <a:solidFill>
                  <a:srgbClr val="660066"/>
                </a:solidFill>
                <a:latin typeface="Tahoma"/>
              </a:rPr>
              <a:t>Analysis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1280" y="1909440"/>
            <a:ext cx="89647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Perde significato il concetto di struttura a vantaggio di quello di rete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La rete non esiste di per sé, ma in relazione a un determinato flusso di comunicazione (che può veicolare contenuti diversi)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Quindi all’interno di un gruppo possono esistere più reti; una rete può attraversare un gruppo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DFCC3-F77C-4885-AA84-82221AA9E87F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341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Problema metodologico: i confini delle reti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46160" y="1906560"/>
            <a:ext cx="88185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In fase di progettazione, il ricercatore deve stabilire i confini della rete che studia. Quando questi non sono stabiliti dal committente o da caratteristiche strutturali, il ricercatore ha 2 possibilità: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tentare delle definizioni da sottoporre a controllo empirico;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675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545472"/>
                </a:solidFill>
                <a:latin typeface="Tahoma"/>
              </a:rPr>
              <a:t>ricostruire i confini in base alle percezioni di chi fa parte della rete che sta studiando.</a:t>
            </a:r>
            <a:endParaRPr b="0" lang="en-US" sz="27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0C5E-C854-431D-B730-D8B9C43ED426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64720" cy="69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660066"/>
                </a:solidFill>
                <a:latin typeface="Tahoma"/>
              </a:rPr>
              <a:t>Problema metodologico: il campionamento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6160" y="1268280"/>
            <a:ext cx="881856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intende studiare reti molto estese, il ricercatore potrebbe aver bisogno di operare un campionament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logica campionaria tradizionale è stata pensata per selezionare individui e non reti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La tecnica di campionamento più adatta alla rilevazione delle reti è lo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snow-ball sampling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marL="59724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n questo caso, la scelta dei punti di campionamento iniziale dipende dalla densità della rete, piuttosto che semplicemente dalla sua dimensione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B486-C49C-4300-A376-444CD5BF59A4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42560" y="333000"/>
            <a:ext cx="8821800" cy="10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660066"/>
                </a:solidFill>
                <a:latin typeface="Tahoma"/>
              </a:rPr>
              <a:t>Network analysis e teoria sociologica: il concetto di capitale sociale</a:t>
            </a:r>
            <a:endParaRPr b="0" lang="en-US" sz="3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179280" y="1483920"/>
            <a:ext cx="878544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Per </a:t>
            </a:r>
            <a:r>
              <a:rPr b="1" lang="it-IT" sz="2400" spc="-1" strike="noStrike">
                <a:solidFill>
                  <a:srgbClr val="545472"/>
                </a:solidFill>
                <a:latin typeface="Tahoma"/>
              </a:rPr>
              <a:t>capitale sociale</a:t>
            </a: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 si intende: l’insieme degli aspetti della struttura sociale che aiutano le persone ad agire collettivamente migliorando il benessere sociale, la crescita e lo sviluppo. Si tratta di un concetto multi-dimensionale e dinamico, che comprende le reti di relazioni interpersonali, le norme sociali e le istituzioni formali e informal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545472"/>
                </a:solidFill>
                <a:latin typeface="Tahoma"/>
              </a:rPr>
              <a:t>Al di là delle importanti differenze che caratterizzano i diversi approcci al capitale sociale, questo concetto costituisce – potenzialmente – una rivoluzione copernicana in sociologia: esso infatti sposta l’attenzione dei ricercatori (e quindi anche il loro modo di fare indagine) dagli attributi individuali a quelli delle relazioni in cui gli individui sono immersi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66571-CBC2-43B6-93B4-F156169DA58E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08000" y="836280"/>
            <a:ext cx="896472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500" spc="-1" strike="noStrike">
                <a:solidFill>
                  <a:srgbClr val="660066"/>
                </a:solidFill>
                <a:latin typeface="Tahoma"/>
              </a:rPr>
              <a:t>Sociometria</a:t>
            </a:r>
            <a:endParaRPr b="0" lang="en-US" sz="45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6320" y="2131560"/>
            <a:ext cx="895968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Nel 1925 Jacob Moreno presenta al mondo la Sociometria: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lnSpc>
                <a:spcPct val="9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500" spc="-1" strike="noStrike">
                <a:solidFill>
                  <a:srgbClr val="545472"/>
                </a:solidFill>
                <a:latin typeface="Tahoma"/>
              </a:rPr>
              <a:t>Repertorio di tecniche di ricerca quantitativa che rilevano e studiano i processi di attrazione e comunicazione che si sviluppano nei gruppi piccoli.</a:t>
            </a:r>
            <a:endParaRPr b="0" lang="en-US" sz="35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19F00-6AD8-4474-8EC1-275FF903DE3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2676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Tra ricerca e terapi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07640" y="1557000"/>
            <a:ext cx="889308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Nella visione di Moreno, la sociometria era più di una tecnica di ricerca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Oltre a rilevare lo stato delle relazioni interpersonali all’interno di un gruppo, una ricerca sociometrica dovrebbe anche mobilitare, coinvolgere, rendere i membri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consapevol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del e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interessati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 al proprio gruppo. In questo senso, era un vero e proprio </a:t>
            </a:r>
            <a:r>
              <a:rPr b="1" lang="it-IT" sz="3200" spc="-1" strike="noStrike">
                <a:solidFill>
                  <a:srgbClr val="545472"/>
                </a:solidFill>
                <a:latin typeface="Tahoma"/>
              </a:rPr>
              <a:t>trattamento</a:t>
            </a:r>
            <a:r>
              <a:rPr b="0" lang="it-IT" sz="32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07C99-C436-44B4-8122-9909980CF8DB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08000" y="266760"/>
            <a:ext cx="8964720" cy="71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Il “raffreddamento” della Sociometri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8920" y="1546200"/>
            <a:ext cx="8820360" cy="45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Ben presto (fine anni ’30) la sociometria perde la sua missione terapeutica, trasformandosi in una affermata tecnica di rilevazione particolarmente usata dagli psicolog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Il suo obiettivo è soprattutto rilevare l’</a:t>
            </a:r>
            <a:r>
              <a:rPr b="0" i="1" lang="it-IT" sz="3000" spc="-1" strike="noStrike">
                <a:solidFill>
                  <a:srgbClr val="545472"/>
                </a:solidFill>
                <a:latin typeface="Tahoma"/>
              </a:rPr>
              <a:t>attrazione interpersonale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, cioè il processo di scelta che sta alla base delle strutture di relazione e comunicazione dei piccoli gruppi.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E6B11-A857-4AD9-BBF2-78CFEDECFCF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54900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Il test socio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79280" y="1341000"/>
            <a:ext cx="8785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Sostanzialmente si basa su due domande: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vai più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>
              <a:spcBef>
                <a:spcPts val="751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it-IT" sz="3000" spc="-1" strike="noStrike">
                <a:solidFill>
                  <a:srgbClr val="545472"/>
                </a:solidFill>
                <a:latin typeface="Tahoma"/>
              </a:rPr>
              <a:t>Con chi non vai d’accordo tra i membri del gruppo?</a:t>
            </a:r>
            <a:endParaRPr b="0" lang="en-US" sz="3000" spc="-1" strike="noStrike">
              <a:solidFill>
                <a:srgbClr val="545472"/>
              </a:solidFill>
              <a:latin typeface="Tahom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649"/>
              </a:spcBef>
              <a:buNone/>
              <a:tabLst>
                <a:tab algn="l" pos="0"/>
                <a:tab algn="l" pos="92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545472"/>
                </a:solidFill>
                <a:latin typeface="Tahoma"/>
              </a:rPr>
              <a:t>A partire da questo nucleo centrale sono stati sviluppati diversi affinamenti, ognuno dei quali si basa su un diverso criterio di attrazione (con chi lavori meglio, a chi affideresti un progetto, con chi andresti a fare una vacanza, a chi affideresti tuo figlio, etc.)</a:t>
            </a:r>
            <a:endParaRPr b="0" lang="en-US" sz="2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A8D02-FE5C-4B49-A814-EDF5D18C0D3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69440" y="698040"/>
            <a:ext cx="8278920" cy="785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660066"/>
                </a:solidFill>
                <a:latin typeface="Tahoma"/>
              </a:rPr>
              <a:t>Preparare un test socimetrico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08000" y="1835280"/>
            <a:ext cx="8997840" cy="461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Quando si realizza un test sociometrico, a ciascun partecipante viene chiesto di designare un numero prefissato di scelte e di repulsioni. Affinché i dati ottenuti con un test sociometrico siano validi, il ricercatore deve: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hiarire il senso di concetti come “accordo”, “preferenza”, etc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 algn="just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convincere i partecipanti a svolgere lo scomodo compito di indicare simpatici e antipatici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BE8D3-0A6F-4FDB-B9F2-AD72F472830D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189000"/>
            <a:ext cx="7772400" cy="64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660066"/>
                </a:solidFill>
                <a:latin typeface="Tahoma"/>
              </a:rPr>
              <a:t>La matrice sociometrica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54" name="Object 4"/>
          <p:cNvGraphicFramePr/>
          <p:nvPr/>
        </p:nvGraphicFramePr>
        <p:xfrm>
          <a:off x="250920" y="946080"/>
          <a:ext cx="8713800" cy="557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946080"/>
                    <a:ext cx="871380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264E-6542-4E1E-A394-93951D63FB81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554040"/>
            <a:ext cx="9144000" cy="6429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ndividu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81080" y="1474560"/>
            <a:ext cx="8278560" cy="476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I partecipanti a un test sociometrico possono essere classificati in base …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status sociometric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icevut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la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centralità sociometrica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bilancio delle scelte e dei rifiuti reciproci);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545472"/>
              </a:buClr>
              <a:buSzPct val="90000"/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al loro </a:t>
            </a:r>
            <a:r>
              <a:rPr b="1" lang="it-IT" sz="2800" spc="-1" strike="noStrike">
                <a:solidFill>
                  <a:srgbClr val="545472"/>
                </a:solidFill>
                <a:latin typeface="Tahoma"/>
              </a:rPr>
              <a:t>grado di isolamento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(il numero di designazioni ricevute, indipendentemente dal fatto che si tratti di scelte o rifiuti)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Segnaposto numero diapositiva 5"/>
          <p:cNvSpPr/>
          <p:nvPr/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4C2EA-4D40-41BC-A210-C03E0F744887}" type="slidenum">
              <a:rPr b="0" lang="it-IT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8964720" cy="1079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300" spc="-1" strike="noStrike">
                <a:solidFill>
                  <a:srgbClr val="660066"/>
                </a:solidFill>
                <a:latin typeface="Tahoma"/>
              </a:rPr>
              <a:t>La matrice sociometrica per studiare i sotto-gruppi</a:t>
            </a:r>
            <a:endParaRPr b="0" lang="en-US" sz="33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81080" y="1690200"/>
            <a:ext cx="8712000" cy="389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Oltre alle domande per fare le designazioni, il ricercatore può includere in un test sociometrico altre domande classiche da questionario (età, sesso, stato civile, ruolo nell’organizzazione, etc.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ahoma"/>
            </a:endParaRPr>
          </a:p>
          <a:p>
            <a:pPr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Successivamente, i partecipanti al test sociometrico possono essere divisi in sottogruppi per analizzare il grado di apertura (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in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 / </a:t>
            </a:r>
            <a:r>
              <a:rPr b="0" i="1" lang="it-IT" sz="2800" spc="-1" strike="noStrike">
                <a:solidFill>
                  <a:srgbClr val="545472"/>
                </a:solidFill>
                <a:latin typeface="Tahoma"/>
              </a:rPr>
              <a:t>out-group</a:t>
            </a:r>
            <a:r>
              <a:rPr b="0" lang="it-IT" sz="2800" spc="-1" strike="noStrike">
                <a:solidFill>
                  <a:srgbClr val="545472"/>
                </a:solidFill>
                <a:latin typeface="Tahoma"/>
              </a:rPr>
              <a:t>) di ciascun sottogruppo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6T21:40:13Z</dcterms:created>
  <dc:creator>Gabriella</dc:creator>
  <dc:description/>
  <dc:language>en-US</dc:language>
  <cp:lastModifiedBy>vitali</cp:lastModifiedBy>
  <dcterms:modified xsi:type="dcterms:W3CDTF">2008-08-26T12:48:22Z</dcterms:modified>
  <cp:revision>96</cp:revision>
  <dc:subject/>
  <dc:title>Esercitazione 16 novembre 2004</dc:title>
</cp:coreProperties>
</file>